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42C-A9DA-4F83-A1D7-3C5C6E4F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D49-A5BE-4503-8731-760A9F07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141-C353-43BD-AC75-3BB91A5C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1A2-6320-4ABB-914C-4895BC6D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7AC-5D83-44F8-A98A-4D81309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B50-9FA5-47DA-B393-8F57FA2C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58B-E466-493A-A8D4-A13BCF55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0AB-BCF5-4A6D-9BC0-3585C1D1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154-E270-4A5A-B42A-23882479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28F-86E1-4730-8DC1-A8A98D2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472-B76E-40D3-8EAD-2763F0BD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ED0-B377-4CB6-A975-46E77FD7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6C4F-99D1-47F6-9ED2-6832C1C94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32000" y="1486080"/>
            <a:ext cx="5616360" cy="28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第四章第二节</a:t>
            </a:r>
            <a:endParaRPr b="1" lang="en-US" sz="2400" spc="-1" strike="noStrike">
              <a:ln w="936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提公因式法</a:t>
            </a:r>
            <a:endParaRPr b="1" lang="en-US" sz="2400" spc="-1" strike="noStrike">
              <a:ln w="936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476280"/>
            <a:ext cx="7561440" cy="7642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探究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小颖解的有误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2263680"/>
            <a:ext cx="655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81240" y="1488960"/>
            <a:ext cx="752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960" y="1500120"/>
            <a:ext cx="83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 a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12ab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a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分解因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160" y="2217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2444760"/>
            <a:ext cx="658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8 a</a:t>
            </a:r>
            <a:r>
              <a:rPr b="1" lang="en-US" sz="4000" spc="-1" strike="noStrike" baseline="30000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1" lang="en-US" sz="4000" spc="-1" strike="noStrike" baseline="30000">
                <a:solidFill>
                  <a:srgbClr val="8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–12ab</a:t>
            </a:r>
            <a:r>
              <a:rPr b="1" lang="en-US" sz="4000" spc="-1" strike="noStrike" baseline="30000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4000" spc="-1" strike="noStrike" baseline="30000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+ 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b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·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8a</a:t>
            </a:r>
            <a:r>
              <a:rPr b="1" lang="en-US" sz="40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b -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b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·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12b</a:t>
            </a:r>
            <a:r>
              <a:rPr b="1" lang="en-US" sz="40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 +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b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·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b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(8a</a:t>
            </a:r>
            <a:r>
              <a:rPr b="1" lang="en-US" sz="40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b - 12b</a:t>
            </a:r>
            <a:r>
              <a:rPr b="1" lang="en-US" sz="40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4240" y="554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5445000"/>
            <a:ext cx="7236000" cy="1219320"/>
          </a:xfrm>
          <a:prstGeom prst="wedgeRoundRectCallout">
            <a:avLst>
              <a:gd name="adj1" fmla="val -56583"/>
              <a:gd name="adj2" fmla="val 48046"/>
              <a:gd name="adj3" fmla="val 16667"/>
            </a:avLst>
          </a:prstGeom>
          <a:solidFill>
            <a:srgbClr val="cc99ff">
              <a:alpha val="59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当多项式的某一项和公因式相同时，提公因式后剩余的项是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095880"/>
            <a:ext cx="157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800000"/>
                </a:solidFill>
                <a:latin typeface="Times New Roman"/>
              </a:rPr>
              <a:t>错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380360" y="260280"/>
            <a:ext cx="890640" cy="115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44720" y="443700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 ab(8a2b - 12b2c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08200" y="251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600" y="260280"/>
            <a:ext cx="888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探究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-2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0" lang="zh-CN" sz="40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–1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0" lang="zh-CN" sz="40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+28x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分解因式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13040" y="981000"/>
            <a:ext cx="5369400" cy="3025080"/>
            <a:chOff x="1013040" y="981000"/>
            <a:chExt cx="5369400" cy="3025080"/>
          </a:xfrm>
        </p:grpSpPr>
        <p:sp>
          <p:nvSpPr>
            <p:cNvPr id="97" name=""/>
            <p:cNvSpPr/>
            <p:nvPr/>
          </p:nvSpPr>
          <p:spPr>
            <a:xfrm>
              <a:off x="1479960" y="33634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013040" y="981000"/>
              <a:ext cx="5369400" cy="2958840"/>
              <a:chOff x="1013040" y="981000"/>
              <a:chExt cx="5369400" cy="2958840"/>
            </a:xfrm>
          </p:grpSpPr>
          <p:sp>
            <p:nvSpPr>
              <p:cNvPr id="99" name=""/>
              <p:cNvSpPr/>
              <p:nvPr/>
            </p:nvSpPr>
            <p:spPr>
              <a:xfrm>
                <a:off x="1856520" y="2583720"/>
                <a:ext cx="4525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-(</a:t>
                </a:r>
                <a:r>
                  <a:rPr b="1" lang="en-US" sz="3600" spc="-1" strike="noStrike">
                    <a:solidFill>
                      <a:srgbClr val="cc0000"/>
                    </a:solidFill>
                    <a:latin typeface="Arial"/>
                  </a:rPr>
                  <a:t>4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.6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1" lang="en-US" sz="3600" spc="-1" strike="noStrike">
                    <a:solidFill>
                      <a:srgbClr val="cc0000"/>
                    </a:solidFill>
                    <a:latin typeface="Arial"/>
                  </a:rPr>
                  <a:t>4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.3x- </a:t>
                </a:r>
                <a:r>
                  <a:rPr b="1" lang="en-US" sz="3600" spc="-1" strike="noStrike">
                    <a:solidFill>
                      <a:srgbClr val="cc0000"/>
                    </a:solidFill>
                    <a:latin typeface="Arial"/>
                  </a:rPr>
                  <a:t>4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.7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1013040" y="981000"/>
                <a:ext cx="5041440" cy="2958840"/>
                <a:chOff x="1013040" y="981000"/>
                <a:chExt cx="5041440" cy="29588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013040" y="981000"/>
                  <a:ext cx="729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Arial"/>
                    </a:rPr>
                    <a:t>解：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800360" y="1114920"/>
                  <a:ext cx="3869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-24</a:t>
                  </a: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40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–12</a:t>
                  </a: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40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+28x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439640" y="2643480"/>
                  <a:ext cx="456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Arial"/>
                    </a:rPr>
                    <a:t>=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560240" y="1850040"/>
                  <a:ext cx="447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Arial"/>
                    </a:rPr>
                    <a:t>=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037600" y="1838520"/>
                  <a:ext cx="40168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-(24</a:t>
                  </a: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40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+12</a:t>
                  </a: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40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-28x)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960920" y="3236400"/>
                  <a:ext cx="3120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cc0000"/>
                      </a:solidFill>
                      <a:latin typeface="Times New Roman"/>
                    </a:rPr>
                    <a:t>-4x 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(6</a:t>
                  </a: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4000" spc="-1" strike="noStrike" baseline="30000">
                      <a:solidFill>
                        <a:srgbClr val="000000"/>
                      </a:solidFill>
                      <a:latin typeface="Arial"/>
                    </a:rPr>
                    <a:t>2 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rial"/>
                    </a:rPr>
                    <a:t>+3x-7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7" name=""/>
          <p:cNvSpPr/>
          <p:nvPr/>
        </p:nvSpPr>
        <p:spPr>
          <a:xfrm>
            <a:off x="6175440" y="537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076640"/>
            <a:ext cx="7128000" cy="2565360"/>
          </a:xfrm>
          <a:prstGeom prst="cloudCallout">
            <a:avLst>
              <a:gd name="adj1" fmla="val 53050"/>
              <a:gd name="adj2" fmla="val 35953"/>
            </a:avLst>
          </a:prstGeom>
          <a:solidFill>
            <a:srgbClr val="fad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当多项式第一项系数是</a:t>
            </a:r>
            <a:r>
              <a:rPr b="1" lang="zh-CN" sz="2800" spc="-1" strike="noStrike">
                <a:solidFill>
                  <a:srgbClr val="333399"/>
                </a:solidFill>
                <a:latin typeface="隶书"/>
                <a:ea typeface="隶书"/>
              </a:rPr>
              <a:t>负数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，通常先提出“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-”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号，</a:t>
            </a:r>
            <a:r>
              <a:rPr b="1" lang="zh-CN" sz="2800" spc="-1" strike="noStrike">
                <a:solidFill>
                  <a:srgbClr val="333399"/>
                </a:solidFill>
                <a:latin typeface="隶书"/>
                <a:ea typeface="隶书"/>
              </a:rPr>
              <a:t>使括号内第一项系数变为正数，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注意括号内各项都要变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57360" y="1011240"/>
            <a:ext cx="544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04640"/>
            <a:ext cx="558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提公因式法分解因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9800" y="1197000"/>
            <a:ext cx="80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关键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正确的找出多项式各项的公因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8080" y="177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注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80" y="242100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多项式是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几项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提公因式后也剩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几项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多项式的某一项和公因式相同时提公因式后剩余的项是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当多项式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第一项系数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是负数，通常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先提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号，使括号内第一项系数变为正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注意括号内各项都要变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11280" y="1309680"/>
            <a:ext cx="79200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x-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9x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a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+ 2b 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4a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6 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b - 2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2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12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8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26028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当堂测试：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把下列各式分解因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35680" y="525456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43080" y="61596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4760" y="388800"/>
            <a:ext cx="2446200" cy="1035360"/>
          </a:xfrm>
          <a:prstGeom prst="cloudCallout">
            <a:avLst>
              <a:gd name="adj1" fmla="val 116902"/>
              <a:gd name="adj2" fmla="val 108587"/>
            </a:avLst>
          </a:prstGeom>
          <a:solidFill>
            <a:srgbClr val="fad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0480" y="59688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36760" y="530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00240" y="375912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14480" y="410220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1880" y="474984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67000" y="5943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14880" y="5086440"/>
            <a:ext cx="975960" cy="485640"/>
          </a:xfrm>
          <a:prstGeom prst="rightArrow">
            <a:avLst>
              <a:gd name="adj1" fmla="val 50000"/>
              <a:gd name="adj2" fmla="val 502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33520" y="575928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3800" y="2060640"/>
            <a:ext cx="544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提公因式法分解因式与单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式乘多项式有什么关系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371628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提公因式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法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隶书"/>
              </a:rPr>
              <a:t>与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单项式乘多项是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互为逆运算关系</a:t>
            </a:r>
            <a:r>
              <a:rPr b="1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6200" y="1143000"/>
            <a:ext cx="226224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随堂测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1981080"/>
            <a:ext cx="54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式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040" y="2590920"/>
            <a:ext cx="640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CN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；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+14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i="1" lang="zh-CN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+32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abx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+49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5)2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05264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分解因式计算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-2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01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(-2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利用简便方法计算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199.8+0.76x1998-1.9x199.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已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+b=3, ab=2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求代数式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b + 2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的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把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m+1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–2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7a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m-1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分解因式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33336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隶书"/>
              </a:rPr>
              <a:t>思考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476280"/>
            <a:ext cx="85327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确定公因式的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）公因式的系数是多项式各项系数的最大公约数。                                                                                                   （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）字母取多项式各项中都含有的相同的字母。                                      （</a:t>
            </a:r>
            <a:r>
              <a:rPr b="1" lang="en-US" sz="24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）相同字母的指数取各项中最小的一个，               即最低次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4920" y="149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小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20" y="2852640"/>
            <a:ext cx="849780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提公因式法分解因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两步：第一步，找出公因式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第二步，提公因式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即用多项式除以公因式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回顾与思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多项式的分解因式的概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把一个多项式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化为几个整式乘积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形式，叫做把这个多项式分解因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分解因式与整式乘法是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互逆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分解因式要注意以下几点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分解的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对象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必须是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多项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分解的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结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定是几个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整式的乘积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形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2602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目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相信我会完成目标的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道什么是公因式，并会找出一个多项式的公因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用提公因式法分解因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97360"/>
            <a:ext cx="93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学指导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课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内容，找出并画出什么是公因式、提公因式法，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云图中的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思考当多项式第一项的系数是负数时，我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应怎么办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98100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多项式中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各项都含有的相同因式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叫做这个多项式各项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公因式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360" y="3716280"/>
            <a:ext cx="882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怎样确定多项式的公因式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公因式与多项式的各项有什么关系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6028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公因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628640"/>
            <a:ext cx="79200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21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 a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12ab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n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x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42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b – 2a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6a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5080" y="549360"/>
            <a:ext cx="74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说出下列各式的公因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78880" y="1557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35680" y="525456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3160" y="471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504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1628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7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256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45080" y="342900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4292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7x</a:t>
            </a:r>
            <a:r>
              <a:rPr b="1" lang="en-US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y</a:t>
            </a:r>
            <a:r>
              <a:rPr b="1" lang="en-US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5120" y="457200"/>
            <a:ext cx="3809880" cy="1523880"/>
          </a:xfrm>
          <a:custGeom>
            <a:avLst/>
            <a:gdLst>
              <a:gd name="textAreaLeft" fmla="*/ 0 w 3809880"/>
              <a:gd name="textAreaRight" fmla="*/ 3810240 w 3809880"/>
              <a:gd name="textAreaTop" fmla="*/ 396360 h 1523880"/>
              <a:gd name="textAreaBottom" fmla="*/ 11275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1382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怎样</a:t>
            </a: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正确找到多项式的公因式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4200" y="1065240"/>
            <a:ext cx="87138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公因式的系数是多项式各项系  数的最大公约数；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字母：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字母取多项式各项中都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含有的相同的字母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指数：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相同字母的指数取各项中最小的一个，即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字母最低次幂；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                           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注：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多项式各项的公因式可以是单项式，也可以是多项式</a:t>
            </a:r>
            <a:r>
              <a:rPr b="1" lang="en-US" sz="4000" spc="-1" strike="noStrike">
                <a:solidFill>
                  <a:srgbClr val="800000"/>
                </a:solidFill>
                <a:latin typeface="隶书"/>
                <a:ea typeface="隶书"/>
              </a:rPr>
              <a:t> 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3120" y="981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系数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4200" y="549360"/>
            <a:ext cx="875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– 6xy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的公因式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2720" y="1817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隶书"/>
              </a:rPr>
              <a:t>系数：最大公约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89800" y="188928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2720" y="26226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隶书"/>
              </a:rPr>
              <a:t>字母：相同字母指数：最低次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15480" y="2897280"/>
            <a:ext cx="126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xy</a:t>
            </a:r>
            <a:r>
              <a:rPr b="1" lang="en-US" sz="44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292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所以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6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公因式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69080" y="4221000"/>
            <a:ext cx="14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隶书"/>
                <a:ea typeface="隶书"/>
              </a:rPr>
              <a:t>3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xy</a:t>
            </a:r>
            <a:r>
              <a:rPr b="1" lang="en-US" sz="44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9080" y="2968560"/>
            <a:ext cx="73080" cy="720720"/>
          </a:xfrm>
          <a:custGeom>
            <a:avLst/>
            <a:gdLst>
              <a:gd name="textAreaLeft" fmla="*/ 0 w 73080"/>
              <a:gd name="textAreaRight" fmla="*/ 26280 w 73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773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因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4040" y="193680"/>
            <a:ext cx="839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隶书"/>
              </a:rPr>
              <a:t>提公因式法  分解因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7840" y="1484280"/>
            <a:ext cx="878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如果一个多项式的各项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含有公因式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可以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把这个公因式提出来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将多项式</a:t>
            </a:r>
            <a:r>
              <a:rPr b="1" lang="zh-CN" sz="4400" spc="-1" strike="noStrike">
                <a:solidFill>
                  <a:srgbClr val="800000"/>
                </a:solidFill>
                <a:latin typeface="隶书"/>
                <a:ea typeface="隶书"/>
              </a:rPr>
              <a:t>写成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公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因式与另一个因式的乘积的形式，这种分解因式的方法叫做</a:t>
            </a: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提公因式法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360" y="190440"/>
            <a:ext cx="889128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探究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把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9x</a:t>
            </a:r>
            <a:r>
              <a:rPr b="0" lang="zh-CN" sz="44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– 6xy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+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3xz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分解因式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8000" y="34243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98760" y="2428920"/>
            <a:ext cx="588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3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x -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3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y +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3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94280" y="1720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9800" y="24447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21000" y="3325680"/>
            <a:ext cx="30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3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3x-2y+z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10320" y="1700280"/>
            <a:ext cx="37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6 x y + 3x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4076640"/>
            <a:ext cx="8893080" cy="2288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方法步骤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①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找出 — 公因式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②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提出 — 公因式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（即用多项式中每一项</a:t>
            </a: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除以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公因式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5:14:35Z</dcterms:created>
  <dc:creator> </dc:creator>
  <dc:description> </dc:description>
  <dc:language>en-US</dc:language>
  <cp:lastModifiedBy>微软用户</cp:lastModifiedBy>
  <dcterms:modified xsi:type="dcterms:W3CDTF">2015-05-04T05:36:32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